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4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F6DA-A389-494E-A0CF-2615E273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3AF2-01CC-4F81-A79C-9E0B1828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512D5-FDF5-4790-8A6A-755179E9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0B273-140D-4099-9C9E-9E431B6C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A126B-D21E-461D-8271-927B7751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CC2A2-8531-4DE1-BC9D-DA44B70C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0EF92-A88E-462D-B18B-5B1178E5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EDF6D-99C2-45F1-AD64-D2E95275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212A5-D41B-4F56-A9C8-11A2F85E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C9095-E967-4AAD-9D89-6F823E3A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7B1F2-C06D-4E46-A73C-34630F70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AB977-E98A-4B1F-94C5-4DC751B1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C6E6-E26A-4DB2-9F29-4ABC885D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3085F-668C-4E40-B4A9-AB54A3D9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E55AC-E4C0-4B9B-9BE5-A2348A3C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7A38C-72A9-4A74-9E16-6CE5EB8A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FF76A-BF7E-4BF1-BD7D-F7264975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89175-AF26-4ED2-A943-CF7ACD20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833DD-AFBD-465A-9EBE-38A94214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A27D6-6A5C-40C7-93DC-A84BEBE3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C7794-33CD-467D-BFEE-15E9FD43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4AF1A-547D-47AF-88BD-ADA18056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9FA91-1E35-485A-88D7-7236213B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F483-273D-4C46-B811-B3816085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BB3F5-989F-4200-B681-F4B5504C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80B69-3B00-43D1-B9AD-A2CDD8C3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2B8E2-7950-425F-8798-2E8A86B3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060B6-10F0-453D-A7F0-D53E99BF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B7351-2D1E-4B51-9E48-DFA94948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A0E08-2270-4989-AAA7-1E43D301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5864B-483D-4A77-BB3C-656F97AD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20434-F1C8-4B13-96B8-8CED223A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90FFC-6A8E-4EED-9536-9B2E5C3B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83374-C757-43F7-B45F-7C701489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28C0-A070-47B1-9336-2321C2F6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049F0-C1A3-4088-83C7-88F50B0D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1C017-E506-484D-AEF4-A2DDA6D8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0248B-A6A1-4D2C-8704-4EF2CD30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4B340-01F1-4D9D-8A69-10FD6C42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423AF-6305-46F1-A225-4522DB14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56D90-4B82-4B09-B6F2-A19B3210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5BBB3-F193-47D8-8A43-2200226A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DC37B-B737-47F2-8D91-25F94BB2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3FA61-2EE2-4AC8-800E-68592803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A5D60-00EA-4B49-A429-9A4EFF56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A31F-E62A-4314-868F-2AE5382F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AFDEA-1600-4521-B54E-20C33CC3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BF8D6-7360-4892-8031-C2D9E818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0BA0F-92A8-4920-B0D4-6F82DC2C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73A94-F3D9-477C-8912-A0CE129B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FB6B5-9731-4A68-A4C2-DA8E5090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08D884-F64F-427E-9D08-7929E25E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BCAB95-A320-4162-B5D0-F9B3A0C2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E6E7E9-58C0-492E-A14A-6BA4DDF1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4DEEC-F797-4446-849E-215A1C44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4B614D-D320-4DD0-BA56-0D4B05C0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5BAD-7361-41C1-8E6A-2FFFB02E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E3A411-2CE2-4FA7-B061-DDD241F3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54F3BD-2C0A-46AE-BB21-377D10DF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31215-B0AE-4D05-B8E5-CECE3F0B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9265EE-A378-49E7-B22F-0A4CFD1E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59C1D-F3FA-466E-9C67-FBE79C2A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34E59-5019-4575-936F-0F43DBE1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6EC12-659A-440F-B80D-C127AC8B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AA57-250A-4EF9-9A58-700551F5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9D36-6C74-4B25-A952-7399D785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1DF2-7769-41E2-80C5-F2DBB2A2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99CF-874D-4337-84EC-1CAB14B0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A666-CDAC-42EC-8B7A-6648AE04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CAA5-47C4-4C04-955E-15B6835E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F324-B822-406A-957F-E00499E4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87C3-3093-4990-BD67-7626B9F6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CD7C-6B82-428D-89EC-B0340B5B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B38C-3931-4727-BDE9-381C7620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F92C4-5DCC-4336-8EC0-B52A6ACD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E55F1-8EEA-42CA-AE02-3A7FB98A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DD68F-7C87-4744-BA0E-F9D82A44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FCFF2-B267-48AE-904B-E4C9E7F1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5D329-8ABC-4590-820D-8CCB6369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F18-F51D-4745-9DAF-42474470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F1850-5221-48A6-9699-B3E67241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3447A-F3BC-48B0-9952-63580951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116E3-8F4F-45DC-8884-08BD23AB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DF3DE-CC0E-49BE-934D-37404600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EA5B9-39B7-4BA7-80CE-32D156C6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A5AAA-258F-4436-BC7A-4DA29A8E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6F1A2-A85F-477B-86E6-DBFD23DA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DA2CF-BB27-4778-AF3F-1FDDDCDF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C342E-9B23-48BC-B20B-05383D9D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5820B-7DB5-4A2C-8050-331C47C4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3901-DCB6-4E18-86B7-4A665775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DD136-615E-4361-B770-D59BE0B5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9375B-5109-4C39-A955-69B6AE75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A7B04-F129-44E9-9DAD-A2BD2BB4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949DE-E8D0-4DC0-8B9C-38E87E24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E4F57-9878-4399-8563-9C5A8107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775E0-D495-4003-9478-392C66FB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5B218-AC76-4538-BE21-E78F5891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4E26F-C699-40D6-8609-F764CE21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ACD56-6F13-4746-90A9-A7D3798D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FC352-1788-4EF7-8144-0DDB8D8E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24B0-06BD-41C3-9A86-E57D34E0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1F917-9565-424F-A58A-47F77057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5C5E0-2184-4FCF-85CA-2EF5F2D0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69525-BFFA-44B0-A565-9DB7D2D7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D01B4-B73F-4E49-969B-6D264ADE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BA825-73C1-402C-90EC-6B0BCE38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53688-FDE4-4F67-8C92-52396D2E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6269C-05ED-4495-A356-66528B7D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26379-E7BC-4DCE-84E1-87769D9F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28965-48CE-4EE7-B47A-036564C2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AEBB0-4C75-4657-B098-4036D565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F689-8575-4802-A1E1-9E9B0535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22CB0-361E-46DA-BED2-A3876ED2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9E138-3C24-4A98-8978-7834D11B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9F1A8-8016-4319-AE82-C576166E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12B5D-8620-4CB1-9D24-1FC1EB2D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43773-35B7-40C6-A074-55A36CCF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86DE5-5300-4D91-A572-09F3E035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7697B-3C2A-471F-8F98-56FC403F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89DCF-55D7-4AE6-8651-45D037EB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60E33-1AB3-4449-BBC3-F2D6DCBB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0E76E-45D9-4DB2-A3FE-8CE509E5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24C1-3B5A-4BA3-A6C9-02D05275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425FA-78D6-4B2E-B113-0379A79C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32D7F-2547-4FB8-A523-3B1B5886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9FAD9-BE34-4A97-96E8-C89FF41B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6A2E0-09BE-4153-8C7D-BED67C43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4F7ED-4BA0-478D-AAD4-F7EE1BE9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9ACB8-2E98-475D-9DF8-8CB16F7E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4A5BE-5D54-47A3-8F02-6B27B034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8C550-AB6F-4BE1-845B-B3CA4684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DFDD0-1AA2-489F-A3F1-1DDA9552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93C58-8204-40C3-945C-3B014D7D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5871-6B28-4E63-8BA0-7F3CF7EB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128E2-3FBE-49A7-BF2D-AF3A1CF0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18210-0CA8-4B50-8B47-7ED6D0DD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12C5C-23EC-4E95-B0DE-A30DEBE4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9114D-1116-44BB-A2D8-CFF21477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AEE44-B696-465D-BF70-39AEB809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6619C-B75D-4ACD-813E-FE8036C8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67DDB-9DF2-4DCA-B49F-47EFFCCC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D77DC-C9DB-4E78-8F1F-75DDCD0B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D9EBD-BEC3-4993-AA91-F15377A0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1DC6F-AC75-423D-AEF2-8B6F8996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416D-8E4E-451A-9A72-E4D66183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D96C7-01E9-4BDE-9538-E58789E0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55363-922B-407A-872E-9386CF65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35392-B5DC-483A-9E90-68BF3828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E30DB-605B-4147-9DBC-14728108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5C746-08D6-48AF-9834-6998A25F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4BDE5-16A7-433A-AEDA-5AF2BB0C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74A4E-6FF9-41F1-9E79-EA9605C0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3708C-26E1-4131-8944-257BAB0D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6C31E-6866-4496-8986-0D92ED56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8CAC6-AC14-4D86-8A09-36AB65D5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E97D-DCF8-4472-886E-DEADA3CB53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D686-F6DC-4252-BBA9-D56607C791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962B-B742-4D39-BE77-0153E829C0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2012-A6A4-4898-B3A2-8FCC83114B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7D3B-78BD-4317-9AB3-C083DE0236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F233-5886-4BBC-9A48-0B584FA334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B1C7-6121-475E-9BA7-3E14CC7CEE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98B2-C9DF-496A-9833-493DD53A80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B834-001C-44BA-8A7E-C13454BFF5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5754-2371-4D99-82C8-B1C3249CB3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E5EB-9B54-4FDE-A10A-5F925F6971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25E7-259F-4BC3-AB0F-7C93C35F7F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4D65-BEA0-479D-B0D3-3442B5A0D7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historyguide.org/intellect/robespierre.html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historyguide.org/intellect/nap_res.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istoryguide.org/intellect/declaration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2330280" y="333360"/>
            <a:ext cx="48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The Radical Stage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the French Revol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1792—1794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838080" y="2666880"/>
            <a:ext cx="762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Declaration of Pilnitz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Girondi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National ‘Convention’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Monarchi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levee en masse”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Jacobins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reason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Committee of Public Safe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uillotine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Maximilien de Robespier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Radicalization of the Rev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September 1792, the Convention declares France a Republ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December, King Louis XVI was placed on trial for “violating the liberties of his subjects” as written in 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the Constit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s is 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treas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 is sentenced to death by behea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Guillot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Used to behead those convicted of trea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40 000 people were put to death this way by the end of 179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Often 60 people a day were guillotined in front of large crow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Beheading was considered the most humane method of exec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But was it reall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7" descr="thermidor.jpg (8858 bytes)"/>
          <p:cNvPicPr/>
          <p:nvPr/>
        </p:nvPicPr>
        <p:blipFill>
          <a:blip r:embed="rId1"/>
          <a:stretch/>
        </p:blipFill>
        <p:spPr>
          <a:xfrm>
            <a:off x="5334120" y="2057400"/>
            <a:ext cx="30477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4" descr="jan21_1793.jpg (16375 bytes)"/>
          <p:cNvPicPr/>
          <p:nvPr/>
        </p:nvPicPr>
        <p:blipFill>
          <a:blip r:embed="rId1"/>
          <a:stretch/>
        </p:blipFill>
        <p:spPr>
          <a:xfrm>
            <a:off x="609480" y="1219320"/>
            <a:ext cx="7925040" cy="530388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Execution of King Louis XVI</a:t>
            </a:r>
            <a:br>
              <a:rPr sz="2800"/>
            </a:b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January 21, 1793, 10:22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Old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4" descr="Guillotine-a"/>
          <p:cNvPicPr/>
          <p:nvPr/>
        </p:nvPicPr>
        <p:blipFill>
          <a:blip r:embed="rId1"/>
          <a:stretch/>
        </p:blipFill>
        <p:spPr>
          <a:xfrm>
            <a:off x="2133720" y="1828800"/>
            <a:ext cx="439236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7" descr="1872-2003"/>
          <p:cNvPicPr/>
          <p:nvPr/>
        </p:nvPicPr>
        <p:blipFill>
          <a:blip r:embed="rId1"/>
          <a:stretch/>
        </p:blipFill>
        <p:spPr>
          <a:xfrm>
            <a:off x="2971800" y="304920"/>
            <a:ext cx="3051000" cy="63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3" descr="guillotine"/>
          <p:cNvPicPr/>
          <p:nvPr/>
        </p:nvPicPr>
        <p:blipFill>
          <a:blip r:embed="rId1"/>
          <a:stretch/>
        </p:blipFill>
        <p:spPr>
          <a:xfrm>
            <a:off x="1371600" y="0"/>
            <a:ext cx="648828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3" descr="1857"/>
          <p:cNvPicPr/>
          <p:nvPr/>
        </p:nvPicPr>
        <p:blipFill>
          <a:blip r:embed="rId1"/>
          <a:stretch/>
        </p:blipFill>
        <p:spPr>
          <a:xfrm>
            <a:off x="304920" y="685800"/>
            <a:ext cx="853416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3" descr="Guillotine"/>
          <p:cNvPicPr/>
          <p:nvPr/>
        </p:nvPicPr>
        <p:blipFill>
          <a:blip r:embed="rId1"/>
          <a:stretch/>
        </p:blipFill>
        <p:spPr>
          <a:xfrm>
            <a:off x="2109960" y="142920"/>
            <a:ext cx="492588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 Reign of Terr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e King’s execution immediately sparks war in Euro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n April, 1793, the </a:t>
            </a:r>
            <a:r>
              <a:rPr b="1" i="1" lang="en-US" sz="2400" spc="-1" strike="noStrike">
                <a:solidFill>
                  <a:srgbClr val="66ffff"/>
                </a:solidFill>
                <a:latin typeface="Comic Sans MS"/>
              </a:rPr>
              <a:t>Jacobins, </a:t>
            </a: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e largest party in the National Convention, set up a </a:t>
            </a:r>
            <a:r>
              <a:rPr b="0" i="1" lang="en-US" sz="2400" spc="-1" strike="noStrike">
                <a:solidFill>
                  <a:srgbClr val="66ffff"/>
                </a:solidFill>
                <a:latin typeface="Comic Sans MS"/>
              </a:rPr>
              <a:t>Committee of Public Safety</a:t>
            </a: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 to protect France from Euro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ts leade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66ffff"/>
                </a:solidFill>
                <a:latin typeface="Comic Sans MS"/>
              </a:rPr>
              <a:t>Maximilien de Robesp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3375000" y="236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7" name="Picture 6" descr="Robespierre biograph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3809880"/>
            <a:ext cx="209700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Comic Sans MS"/>
              </a:rPr>
              <a:t>Maximilien de Robespier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September, Robespierre granted emergency power to The Committee to “detain those suspected as enemies (spies) of the Republic.”  By the end of 1794, over 100 000 people were arres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ose BELIEVED guilty, were exec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y summer 1794, Robespierre had so much power that he was feared now by the people who did the kill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 was executed by guillotine on July 27, 179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9250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ccccff"/>
                </a:solidFill>
                <a:latin typeface="Comic Sans MS"/>
              </a:rPr>
              <a:t>The Radical Stages of the French Revolution:  1792—1794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3" descr="{short description of image}"/>
          <p:cNvPicPr/>
          <p:nvPr/>
        </p:nvPicPr>
        <p:blipFill>
          <a:blip r:embed="rId1"/>
          <a:stretch/>
        </p:blipFill>
        <p:spPr>
          <a:xfrm>
            <a:off x="2438280" y="2286000"/>
            <a:ext cx="4572000" cy="261792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4"/>
          <p:cNvSpPr/>
          <p:nvPr/>
        </p:nvSpPr>
        <p:spPr>
          <a:xfrm>
            <a:off x="3528360" y="5184720"/>
            <a:ext cx="24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Comic Sans MS"/>
              </a:rPr>
              <a:t>“</a:t>
            </a:r>
            <a:r>
              <a:rPr b="0" lang="en-US" sz="1600" spc="-1" strike="noStrike">
                <a:solidFill>
                  <a:srgbClr val="ccccff"/>
                </a:solidFill>
                <a:latin typeface="Comic Sans MS"/>
              </a:rPr>
              <a:t>Aspirations to Equality”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Picture 4" descr="robespierre_excutioner"/>
          <p:cNvPicPr/>
          <p:nvPr/>
        </p:nvPicPr>
        <p:blipFill>
          <a:blip r:embed="rId1"/>
          <a:stretch/>
        </p:blipFill>
        <p:spPr>
          <a:xfrm>
            <a:off x="2286000" y="380880"/>
            <a:ext cx="36450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hat happens nex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2946240" y="19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4" name="Picture 5" descr="Click here for Napoelon Resourc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371600"/>
            <a:ext cx="3549600" cy="42102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6"/>
          <p:cNvSpPr/>
          <p:nvPr/>
        </p:nvSpPr>
        <p:spPr>
          <a:xfrm>
            <a:off x="2893680" y="5791320"/>
            <a:ext cx="31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apoleon Bonapa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Comic Sans MS"/>
              </a:rPr>
              <a:t>The Political Spect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9"/>
          <p:cNvSpPr/>
          <p:nvPr/>
        </p:nvSpPr>
        <p:spPr>
          <a:xfrm>
            <a:off x="5562720" y="2590920"/>
            <a:ext cx="28954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Line 11"/>
          <p:cNvSpPr/>
          <p:nvPr/>
        </p:nvSpPr>
        <p:spPr>
          <a:xfrm>
            <a:off x="762120" y="2590920"/>
            <a:ext cx="289548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12"/>
          <p:cNvSpPr/>
          <p:nvPr/>
        </p:nvSpPr>
        <p:spPr>
          <a:xfrm>
            <a:off x="311040" y="297180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liber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13"/>
          <p:cNvSpPr/>
          <p:nvPr/>
        </p:nvSpPr>
        <p:spPr>
          <a:xfrm>
            <a:off x="3961440" y="3048120"/>
            <a:ext cx="145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Status qu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14"/>
          <p:cNvSpPr/>
          <p:nvPr/>
        </p:nvSpPr>
        <p:spPr>
          <a:xfrm>
            <a:off x="7086600" y="304812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conservat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6850800" y="3657600"/>
            <a:ext cx="173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keep thing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the sam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412200" y="365760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eek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more chang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5" descr="Full text of the &quot;Declaration of the Rights of Man and the Citizen&quot;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457200"/>
            <a:ext cx="4325760" cy="54864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. . . . Every citizen has the right to seize conspirators and counter-revolutionaries and to arraign them before magistrates. He is required to denounce them when he knows of them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283860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6" descr="october_days.jpg (7459 bytes)"/>
          <p:cNvPicPr/>
          <p:nvPr/>
        </p:nvPicPr>
        <p:blipFill>
          <a:blip r:embed="rId1"/>
          <a:stretch/>
        </p:blipFill>
        <p:spPr>
          <a:xfrm>
            <a:off x="2895480" y="2362320"/>
            <a:ext cx="3276720" cy="205884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is Majesty the 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mperor [of Austria]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and His Majesty the 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King of Prussia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…declare that the situation in which His Majesty the King of France is in is an object of common interest to all the sovereigns of Europe.  [We are therefore] resolved to act promptly in a mutual agreement with the necessary forces in order to obtain the proposed and common goal.”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2019600" y="4572000"/>
            <a:ext cx="5075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Declaration of Pilnitz</a:t>
            </a:r>
            <a:r>
              <a:rPr b="0" i="1" lang="en-US" sz="2000" spc="-1" strike="noStrike">
                <a:solidFill>
                  <a:srgbClr val="ffff00"/>
                </a:solidFill>
                <a:latin typeface="Comic Sans MS"/>
              </a:rPr>
              <a:t>, August, 179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Comic Sans MS"/>
              </a:rPr>
              <a:t>(An attempt by Austria and Prussia to curb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Comic Sans MS"/>
              </a:rPr>
              <a:t>the French threat to the stability of Europe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National ‘Assembly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The “Assembly” changes its name to the “Conventio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In 1791, the National Convention has its first mee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It is comprised of three groups of peo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Comic Sans MS"/>
              </a:rPr>
              <a:t>The Feuillants, the Girondins,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nd </a:t>
            </a:r>
            <a:r>
              <a:rPr b="1" i="1" lang="en-US" sz="2400" spc="-1" strike="noStrike">
                <a:solidFill>
                  <a:srgbClr val="ffff66"/>
                </a:solidFill>
                <a:latin typeface="Comic Sans MS"/>
              </a:rPr>
              <a:t>the Jacobins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Comic Sans MS"/>
              </a:rPr>
              <a:t>The Political Spectrum (…again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3"/>
          <p:cNvSpPr/>
          <p:nvPr/>
        </p:nvSpPr>
        <p:spPr>
          <a:xfrm>
            <a:off x="5562720" y="2133720"/>
            <a:ext cx="28954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Line 4"/>
          <p:cNvSpPr/>
          <p:nvPr/>
        </p:nvSpPr>
        <p:spPr>
          <a:xfrm>
            <a:off x="838080" y="2133720"/>
            <a:ext cx="2895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615600" y="259092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liber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3942000" y="259092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moder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6781680" y="259092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conservat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6850800" y="3352680"/>
            <a:ext cx="173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keep thing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the sam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3833640" y="3352680"/>
            <a:ext cx="187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will acce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ome chang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Text Box 10"/>
          <p:cNvSpPr/>
          <p:nvPr/>
        </p:nvSpPr>
        <p:spPr>
          <a:xfrm>
            <a:off x="488520" y="327672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eek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more chang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Text Box 12"/>
          <p:cNvSpPr/>
          <p:nvPr/>
        </p:nvSpPr>
        <p:spPr>
          <a:xfrm>
            <a:off x="6750360" y="4419720"/>
            <a:ext cx="19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Feuilla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Text Box 13"/>
          <p:cNvSpPr/>
          <p:nvPr/>
        </p:nvSpPr>
        <p:spPr>
          <a:xfrm>
            <a:off x="3763080" y="4343400"/>
            <a:ext cx="19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Girond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Text Box 14"/>
          <p:cNvSpPr/>
          <p:nvPr/>
        </p:nvSpPr>
        <p:spPr>
          <a:xfrm>
            <a:off x="545400" y="426708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Jacob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National ‘Convention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peasant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, however, were demanding equal repres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Levee en masse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o show their seriousness, they attacked the King’s palace, killing hundre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7" descr="aug10_1792.jpg (13416 bytes)"/>
          <p:cNvPicPr/>
          <p:nvPr/>
        </p:nvPicPr>
        <p:blipFill>
          <a:blip r:embed="rId1"/>
          <a:stretch/>
        </p:blipFill>
        <p:spPr>
          <a:xfrm>
            <a:off x="4343400" y="1595520"/>
            <a:ext cx="4495680" cy="34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Radicalization of the Rev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April, 1792, because of this assault, the National Convention declare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r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n all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opposed to the Revolution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monarchi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 August, the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Feuillant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re forced out of the Convention.  It is now a two party Convention (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Girondin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Jacobin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47:56Z</dcterms:created>
  <dc:creator>Leo Hayes High School</dc:creator>
  <dc:description/>
  <dc:language>en-US</dc:language>
  <cp:lastModifiedBy>ED18</cp:lastModifiedBy>
  <dcterms:modified xsi:type="dcterms:W3CDTF">2011-09-30T17:12:24Z</dcterms:modified>
  <cp:revision>23</cp:revision>
  <dc:subject/>
  <dc:title>The Radical Stages of the French Revolution:  1792—1794</dc:title>
</cp:coreProperties>
</file>